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0E5-6615-4215-B8A0-EF1C429F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24F-7ADD-432E-8775-37C33286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B88-C472-4E70-81D0-38092F58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6B9-DBD1-4A44-9490-04FD7A66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357-DF14-461C-9569-7AB17A28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DD5-8B88-437E-8917-AF607065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34B-1A24-4FBF-BCA5-6CD7D255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B82-5115-4554-A7DA-D198329D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A00-891D-4E90-B7B6-67625BE7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C12-2D54-49DD-8D84-E9643BEB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A4A-96D6-4A25-8372-58D92D18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8BE-3CCC-417F-B420-E9FA4A85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6D54-18A6-4E56-B0A0-FF6CDBF94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blogs.seattleweekly.com/voracious/corn.jpg&amp;imgrefurl=http://blogs.seattleweekly.com/voracious/2008/09/do_not_open_the_corn.php&amp;usg=__KkD4Xvw50_qcZfG_KC7deyVxCKw=&amp;h=300&amp;w=360&amp;sz=33&amp;hl=en&amp;start=3&amp;zoom=1&amp;itbs=1&amp;tbnid=jC7yjzfxn9PXgM:&amp;tbnh=101&amp;tbnw=121&amp;prev=/images%3Fq%3DCorn%26hl%3Den%26gbv%3D2%26tbs%3Disch:1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USSIA’S  EC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Allessandra Toscanini, Darren Chau, and Skerdilaid Ho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97180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106668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FOOD PRODUCED IN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ato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ar b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oadway"/>
              </a:rPr>
              <a:t>Manufactu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St. Petersburg is a shipbuilding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ost manufacturing centers are in we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Factories focus on heavy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Some factories switched to light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Factories in St. Petersburg make light machinery, textiles, and scientific and medic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2:05Z</dcterms:created>
  <dc:creator> </dc:creator>
  <dc:description/>
  <dc:language>en-US</dc:language>
  <cp:lastModifiedBy> </cp:lastModifiedBy>
  <dcterms:modified xsi:type="dcterms:W3CDTF">2010-12-20T14:14:13Z</dcterms:modified>
  <cp:revision>4</cp:revision>
  <dc:subject/>
  <dc:title>RUSSIA’S  ECONOMY</dc:title>
</cp:coreProperties>
</file>